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Picture 4" descr="pph_c"/>
          <p:cNvPicPr/>
          <p:nvPr/>
        </p:nvPicPr>
        <p:blipFill>
          <a:blip r:embed="rId2"/>
          <a:stretch/>
        </p:blipFill>
        <p:spPr>
          <a:xfrm>
            <a:off x="8077320" y="6019920"/>
            <a:ext cx="838080" cy="633240"/>
          </a:xfrm>
          <a:prstGeom prst="rect">
            <a:avLst/>
          </a:prstGeom>
          <a:ln w="0">
            <a:noFill/>
          </a:ln>
        </p:spPr>
      </p:pic>
      <p:sp>
        <p:nvSpPr>
          <p:cNvPr id="3" name="Text Box 5"/>
          <p:cNvSpPr/>
          <p:nvPr/>
        </p:nvSpPr>
        <p:spPr>
          <a:xfrm>
            <a:off x="304920" y="6324480"/>
            <a:ext cx="4800600" cy="64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03 Prentice Hall</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par</a:t>
            </a:r>
            <a:fld id="{B279C083-B437-4755-94D1-A0A5D17A84E7}" type="slidenum">
              <a:rPr b="0" lang="en-US" sz="800" spc="-1" strike="noStrike">
                <a:solidFill>
                  <a:srgbClr val="ffffff"/>
                </a:solidFill>
                <a:latin typeface="Arial"/>
              </a:rPr>
              <a:t>&lt;number&gt;</a:t>
            </a:fld>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 name="Line 6"/>
          <p:cNvSpPr/>
          <p:nvPr/>
        </p:nvSpPr>
        <p:spPr>
          <a:xfrm>
            <a:off x="533520" y="1447920"/>
            <a:ext cx="8153280" cy="0"/>
          </a:xfrm>
          <a:prstGeom prst="line">
            <a:avLst/>
          </a:prstGeom>
          <a:ln w="38160">
            <a:solidFill>
              <a:srgbClr val="3399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Writing Paragraphs</a:t>
            </a:r>
            <a:br>
              <a:rPr sz="4400"/>
            </a:br>
            <a:r>
              <a:rPr b="1" lang="en-US" sz="4400" spc="-1" strike="noStrike">
                <a:solidFill>
                  <a:srgbClr val="3399ff"/>
                </a:solidFill>
                <a:latin typeface="Arial"/>
              </a:rPr>
              <a:t>Descriptive</a:t>
            </a:r>
            <a:endParaRPr b="1" lang="en-US" sz="44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ED FOR CLIMACTIC ARRANGEMENT</a:t>
            </a:r>
            <a:endParaRPr b="1" lang="en-US" sz="28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of motivating a child is letting her know she is loved for who she is. All too often parents place conditions on their love: a “B” grade may be all right, but we’ll love you more if you get an “A.” Children learn that they will be loved only if they get good grades. As Kathie Durbin points out in her article “Grappling with Grades,” children are an investment in time. Knowing the child - abilities, limitations and all - takes time and care: time at the library and at home reading together, time spent together learning “for fun,” time spent just talking about anything that’s important to the child, time providing guidance and assistance as opposed to punishment and criticism. These are the things that can motivate a child to learn.</a:t>
            </a:r>
            <a:endParaRPr b="0" lang="en-US" sz="24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PATTERNS OF DEVELOPMENT:</a:t>
            </a:r>
            <a:br>
              <a:rPr sz="2800"/>
            </a:br>
            <a:r>
              <a:rPr b="1" lang="en-US" sz="2800" spc="-1" strike="noStrike">
                <a:solidFill>
                  <a:srgbClr val="ffffff"/>
                </a:solidFill>
                <a:latin typeface="Arial"/>
              </a:rPr>
              <a:t>COMPARISON AND CONTRAST</a:t>
            </a:r>
            <a:endParaRPr b="1" lang="en-US" sz="2800" spc="-1" strike="noStrike">
              <a:solidFill>
                <a:srgbClr val="ffffff"/>
              </a:solidFill>
              <a:latin typeface="Arial"/>
            </a:endParaRPr>
          </a:p>
        </p:txBody>
      </p:sp>
      <p:sp>
        <p:nvSpPr>
          <p:cNvPr id="61" name="PlaceHolder 2"/>
          <p:cNvSpPr>
            <a:spLocks noGrp="1"/>
          </p:cNvSpPr>
          <p:nvPr>
            <p:ph/>
          </p:nvPr>
        </p:nvSpPr>
        <p:spPr>
          <a:xfrm>
            <a:off x="380880" y="1828800"/>
            <a:ext cx="8229600" cy="452592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which usually implies contrast) is a strategy of development that allows you to emphasize your point by inviting the reader to see how it is like (or unlike) something he or she is familiar with.</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the following paragraph, strengthening the point by introducing comparison to the roles expected of boys.</a:t>
            </a:r>
            <a:endParaRPr b="0" lang="en-US" sz="2800" spc="-1" strike="noStrike">
              <a:solidFill>
                <a:srgbClr val="ffffff"/>
              </a:solidFill>
              <a:latin typeface="Arial"/>
            </a:endParaRPr>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4</a:t>
            </a:r>
            <a:endParaRPr b="1" lang="en-US" sz="2800" spc="-1" strike="noStrike">
              <a:solidFill>
                <a:srgbClr val="ff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 role stereotyping begins in early infancy and develops into outright discrimination by the age of puberty. Right from birth, certain prejudices and preconceptions are telegraphed to girls. Girl babies are coddled and cooed over. Toys are also chosen with specific connotations in mind. Girls get Barbie dolls, tea sets, nurse’s kits, mini-stoves. Later they go to ballet classes, piano lessons, and bake brownies with mom. Girls are isolated at home and learn to fear the world at large.</a:t>
            </a:r>
            <a:endParaRPr b="0" lang="en-US" sz="28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ED TO INTRODUCE COMPARISON</a:t>
            </a:r>
            <a:endParaRPr b="1" lang="en-US" sz="2800" spc="-1" strike="noStrike">
              <a:solidFill>
                <a:srgbClr val="ffffff"/>
              </a:solidFill>
              <a:latin typeface="Arial"/>
            </a:endParaRPr>
          </a:p>
        </p:txBody>
      </p:sp>
      <p:sp>
        <p:nvSpPr>
          <p:cNvPr id="65" name="PlaceHolder 2"/>
          <p:cNvSpPr>
            <a:spLocks noGrp="1"/>
          </p:cNvSpPr>
          <p:nvPr>
            <p:ph/>
          </p:nvPr>
        </p:nvSpPr>
        <p:spPr>
          <a:xfrm>
            <a:off x="457200" y="1599840"/>
            <a:ext cx="8229600" cy="5257800"/>
          </a:xfrm>
          <a:prstGeom prst="rect">
            <a:avLst/>
          </a:prstGeom>
          <a:noFill/>
          <a:ln w="0">
            <a:noFill/>
          </a:ln>
        </p:spPr>
        <p:txBody>
          <a:bodyPr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x role stereotyping begins in infancy and develops into outright discrimination by the age of puberty. Right from birth, boys and girls are treated differently; different prejudices and preconceptions are telegraphed to them. Boy babies are hoisted and roughhoused, girls are coddled and cooed over. Toys are also chosen with specific connotations in mind. Boys receive do-it-yourself kits, chemistry labs, baseballs, model ships. Girls get Barbie dolls, tea sets, nurse’s kits, mini-stoves. Later, boys ski, camp and play football with dad. Girls go to ballet classes, take piano lessons, and bake brownies with mom. Whereas boys are taught about organization and are exposed to social contacts, girls are isolated at home and learn to fear the world at large.</a:t>
            </a: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DEVELOPMENT: CAUSE AND EFFECT</a:t>
            </a:r>
            <a:endParaRPr b="1" lang="en-US" sz="28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find yourself trying to explain why something happened, or happens, you are probably thinking about cause and effect relationship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zing that you are doing so may help you to sharpen the focus of an otherwise sprawling paragraph.</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the following paragraph, emphasizing the various causes of the American tendency to take sports seriously. </a:t>
            </a:r>
            <a:endParaRPr b="0" lang="en-US" sz="2800" spc="-1" strike="noStrike">
              <a:solidFill>
                <a:srgbClr val="ffffff"/>
              </a:solidFill>
              <a:latin typeface="Arial"/>
            </a:endParaRPr>
          </a:p>
        </p:txBody>
      </p:sp>
    </p:spTree>
  </p:cSld>
  <p:transition>
    <p:random/>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5</a:t>
            </a:r>
            <a:endParaRPr b="1" lang="en-US" sz="2800" spc="-1" strike="noStrike">
              <a:solidFill>
                <a:srgbClr val="ff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might ask: why are people so serious about sports? The answers to this question could be many. For one, people can release their aggressions through sports. Kicking a ball, hitting it with a bat, punching another man in the face can feel good for both participants and spectators. Just think, one man can get in a boxing ring with another and beat him up and it’s perfectly all right. All right, people love to see it. They cheer them on, ”Yeah, Ali, get him on the left, the left. Ah, he’s down, he’s down!” Some people make bets on the game. If they win, great, but think of the risk people are willing to take on a boxing match or a horse race. Sports can be healthy. It’s good exercise, and again a good way to get out some aggressions, it’s legal, you can almost always find someone else who wants to play. Sometimes I think sports can be political. When judges announce the score in Olympic games, why is it certain countries that are allies will give the same scores to a country they are not friendly with? Americans are always more aware of U.S. against U.S.S.R. than U.S. against Canada.</a:t>
            </a:r>
            <a:endParaRPr b="0" lang="en-US" sz="20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ED TO EMPHASIZE CAUSE AND EFFECT</a:t>
            </a:r>
            <a:endParaRPr b="1" lang="en-US" sz="2800" spc="-1" strike="noStrike">
              <a:solidFill>
                <a:srgbClr val="ffffff"/>
              </a:solidFill>
              <a:latin typeface="Arial"/>
            </a:endParaRPr>
          </a:p>
        </p:txBody>
      </p:sp>
      <p:sp>
        <p:nvSpPr>
          <p:cNvPr id="71" name="PlaceHolder 2"/>
          <p:cNvSpPr>
            <a:spLocks noGrp="1"/>
          </p:cNvSpPr>
          <p:nvPr>
            <p:ph/>
          </p:nvPr>
        </p:nvSpPr>
        <p:spPr>
          <a:xfrm>
            <a:off x="457200" y="1600200"/>
            <a:ext cx="8229600" cy="4648320"/>
          </a:xfrm>
          <a:prstGeom prst="rect">
            <a:avLst/>
          </a:prstGeom>
          <a:noFill/>
          <a:ln w="0">
            <a:noFill/>
          </a:ln>
        </p:spPr>
        <p:txBody>
          <a:bodyPr anchor="t">
            <a:normAutofit fontScale="98000"/>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 Americans take sports so seriously? No doubt, there are many reasons. Sports are legal, for one, and they provide good exercise. People can release their aggressions through sports: kicking a ball, hitting it with a bat, punching an opponent in the face. Those who do not participate in sports themselves can indulge their aggressive appetites vicariously. They cheer as one man beats up another in the ring; they may become even more involved by placing bets. When the Olympics roll around, rooting for the home team may even take on political overtones. Few get as excited watching the American team play against Canada as they do when Russia is the opponent. Even the judges reflect this partisanship, giving higher scores to athletes from their allies’ countries. Why take sports seriously? Because the nation’s pride is at stake.</a:t>
            </a:r>
            <a:endParaRPr b="0" lang="en-US" sz="24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ORY STRATEGIES: SOME GUIDELINES FOR INTRODUCTORY PARAGRAPHS</a:t>
            </a:r>
            <a:endParaRPr b="1" lang="en-US" sz="28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relevant background information.</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 a brief interesting story or anecdote.</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a pertinent statistic or statistics.</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one or more provocative questions. </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n appropriate quotation.</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 useful analogy.</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a term used throughout the essay. CAUTION: Don’t open with a dictionary definition of a term your audience already knows the meaning of - </a:t>
            </a:r>
            <a:r>
              <a:rPr b="0" i="1" lang="en-US" sz="2800" spc="-1" strike="noStrike">
                <a:solidFill>
                  <a:srgbClr val="ffffff"/>
                </a:solidFill>
                <a:latin typeface="Arial"/>
              </a:rPr>
              <a:t>unless </a:t>
            </a:r>
            <a:r>
              <a:rPr b="0" lang="en-US" sz="2800" spc="-1" strike="noStrike">
                <a:solidFill>
                  <a:srgbClr val="ffffff"/>
                </a:solidFill>
                <a:latin typeface="Arial"/>
              </a:rPr>
              <a:t>you intend to disagree with the dictionary.</a:t>
            </a:r>
            <a:endParaRPr b="0" lang="en-US" sz="2800" spc="-1" strike="noStrike">
              <a:solidFill>
                <a:srgbClr val="ffffff"/>
              </a:solidFill>
              <a:latin typeface="Arial"/>
            </a:endParaRPr>
          </a:p>
        </p:txBody>
      </p:sp>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3">
                                            <p:txEl>
                                              <p:pRg st="4" end="4"/>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3">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THESE IN INTRODUCTORY PARAGRAPHS</a:t>
            </a:r>
            <a:endParaRPr b="1" lang="en-US" sz="2800" spc="-1" strike="noStrike">
              <a:solidFill>
                <a:srgbClr val="ffffff"/>
              </a:solidFill>
              <a:latin typeface="Arial"/>
            </a:endParaRPr>
          </a:p>
        </p:txBody>
      </p:sp>
      <p:sp>
        <p:nvSpPr>
          <p:cNvPr id="75" name="PlaceHolder 2"/>
          <p:cNvSpPr>
            <a:spLocks noGrp="1"/>
          </p:cNvSpPr>
          <p:nvPr>
            <p:ph/>
          </p:nvPr>
        </p:nvSpPr>
        <p:spPr>
          <a:xfrm>
            <a:off x="533520" y="1828800"/>
            <a:ext cx="81532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ng the obviou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 this paper I will discuss the causes of falling oil pric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y assignment is to discuss Hamlet’s indeci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logizing: “I’m not sure I’m right, but here is my opin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hés: “Haste makes waste,” “War is hell,” etc.</a:t>
            </a:r>
            <a:endParaRPr b="0" lang="en-US" sz="2800" spc="-1" strike="noStrike">
              <a:solidFill>
                <a:srgbClr val="ffffff"/>
              </a:solidFill>
              <a:latin typeface="Arial"/>
            </a:endParaRPr>
          </a:p>
        </p:txBody>
      </p:sp>
    </p:spTree>
  </p:cSld>
  <p:transition>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5">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75">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DING STRATEGIES: SOME GUIDELINES</a:t>
            </a:r>
            <a:endParaRPr b="1" lang="en-US" sz="2800" spc="-1" strike="noStrike">
              <a:solidFill>
                <a:srgbClr val="ffffff"/>
              </a:solidFill>
              <a:latin typeface="Arial"/>
            </a:endParaRPr>
          </a:p>
        </p:txBody>
      </p:sp>
      <p:sp>
        <p:nvSpPr>
          <p:cNvPr id="77" name="PlaceHolder 2"/>
          <p:cNvSpPr>
            <a:spLocks noGrp="1"/>
          </p:cNvSpPr>
          <p:nvPr>
            <p:ph/>
          </p:nvPr>
        </p:nvSpPr>
        <p:spPr>
          <a:xfrm>
            <a:off x="457200" y="2057040"/>
            <a:ext cx="8229600" cy="380988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devices suggested for introductory paragraphs; avoid using the same device in the introduction and the conclusion.</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ize the main points of the essay.</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for awareness and/or action.</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 to the future.</a:t>
            </a:r>
            <a:endParaRPr b="0" lang="en-US" sz="2800" spc="-1" strike="noStrike">
              <a:solidFill>
                <a:srgbClr val="ffffff"/>
              </a:solidFill>
              <a:latin typeface="Arial"/>
            </a:endParaRPr>
          </a:p>
        </p:txBody>
      </p:sp>
    </p:spTree>
  </p:cSld>
  <p:transition>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1532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PARAGRAPH UNITY</a:t>
            </a:r>
            <a:endParaRPr b="1" lang="en-US" sz="2800" spc="-1" strike="noStrike">
              <a:solidFill>
                <a:srgbClr val="ffffff"/>
              </a:solidFill>
              <a:latin typeface="Arial"/>
            </a:endParaRPr>
          </a:p>
        </p:txBody>
      </p:sp>
      <p:sp>
        <p:nvSpPr>
          <p:cNvPr id="43" name="PlaceHolder 2"/>
          <p:cNvSpPr>
            <a:spLocks noGrp="1"/>
          </p:cNvSpPr>
          <p:nvPr>
            <p:ph/>
          </p:nvPr>
        </p:nvSpPr>
        <p:spPr>
          <a:xfrm>
            <a:off x="533520" y="1828800"/>
            <a:ext cx="8153280" cy="452592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 following paragraph carefully.</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main idea, state it in a single sentence (topic sentence).</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the paragraph to support that idea.</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it irrelevant details.</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rrange and condense material as necessary.</a:t>
            </a:r>
            <a:endParaRPr b="0" lang="en-US" sz="28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TO AVOID IN CONCLUDING PARAGRAPHS</a:t>
            </a:r>
            <a:endParaRPr b="1" lang="en-US" sz="2800" spc="-1" strike="noStrike">
              <a:solidFill>
                <a:srgbClr val="ff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going off track: Don’t introduce a new idea or fact that belongs in the body of the essay.</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rewording the introduction: If the two parts of your essay are interchangeable, you need to revise.</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announcing what you have done: e.g., “In this paper I have tried to show the main causes for…”</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making absolute claims: “This </a:t>
            </a:r>
            <a:r>
              <a:rPr b="0" i="1" lang="en-US" sz="2400" spc="-1" strike="noStrike">
                <a:solidFill>
                  <a:srgbClr val="ffffff"/>
                </a:solidFill>
                <a:latin typeface="Arial"/>
              </a:rPr>
              <a:t>proves</a:t>
            </a:r>
            <a:r>
              <a:rPr b="0" lang="en-US" sz="2400" spc="-1" strike="noStrike">
                <a:solidFill>
                  <a:srgbClr val="ffffff"/>
                </a:solidFill>
                <a:latin typeface="Arial"/>
              </a:rPr>
              <a:t> that…” Use “This </a:t>
            </a:r>
            <a:r>
              <a:rPr b="0" i="1" lang="en-US" sz="2400" spc="-1" strike="noStrike">
                <a:solidFill>
                  <a:srgbClr val="ffffff"/>
                </a:solidFill>
                <a:latin typeface="Arial"/>
              </a:rPr>
              <a:t>seems </a:t>
            </a:r>
            <a:r>
              <a:rPr b="0" lang="en-US" sz="2400" spc="-1" strike="noStrike">
                <a:solidFill>
                  <a:srgbClr val="ffffff"/>
                </a:solidFill>
                <a:latin typeface="Arial"/>
              </a:rPr>
              <a:t>to prove that…”</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logical fallacies: Conclusions are vulnerable to errors in reasoning.</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apologizing: This casts doubt on your material. e.g. “Even though I am not an expert…” Be positive.</a:t>
            </a:r>
            <a:endParaRPr b="0" lang="en-US" sz="2400" spc="-1" strike="noStrike">
              <a:solidFill>
                <a:srgbClr val="ffffff"/>
              </a:solidFill>
              <a:latin typeface="Arial"/>
            </a:endParaRPr>
          </a:p>
        </p:txBody>
      </p:sp>
    </p:spTree>
  </p:cSld>
  <p:transition>
    <p:random/>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NRI ROUSSEAU’S </a:t>
            </a:r>
            <a:r>
              <a:rPr b="1" lang="en-US" sz="2800" spc="-1" strike="noStrike" u="sng">
                <a:solidFill>
                  <a:srgbClr val="ffffff"/>
                </a:solidFill>
                <a:uFillTx/>
                <a:latin typeface="Arial"/>
              </a:rPr>
              <a:t>SLEEPING GYPSY</a:t>
            </a:r>
            <a:endParaRPr b="1" lang="en-US" sz="2800" spc="-1" strike="noStrike">
              <a:solidFill>
                <a:srgbClr val="ffffff"/>
              </a:solidFill>
              <a:latin typeface="Arial"/>
            </a:endParaRPr>
          </a:p>
        </p:txBody>
      </p:sp>
      <p:pic>
        <p:nvPicPr>
          <p:cNvPr id="81" name="Picture 7" descr="the_sleeping_gypsy_1897"/>
          <p:cNvPicPr/>
          <p:nvPr/>
        </p:nvPicPr>
        <p:blipFill>
          <a:blip r:embed="rId1"/>
          <a:stretch/>
        </p:blipFill>
        <p:spPr>
          <a:xfrm>
            <a:off x="1143000" y="1600200"/>
            <a:ext cx="6799320" cy="43689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RINGBOARD FOR WRITING: DRAFTING AND REVISING PARAGRAPHS</a:t>
            </a:r>
            <a:endParaRPr b="1" lang="en-US" sz="2800" spc="-1" strike="noStrike">
              <a:solidFill>
                <a:srgbClr val="ffffff"/>
              </a:solidFill>
              <a:latin typeface="Arial"/>
            </a:endParaRPr>
          </a:p>
        </p:txBody>
      </p:sp>
      <p:sp>
        <p:nvSpPr>
          <p:cNvPr id="83" name="PlaceHolder 2"/>
          <p:cNvSpPr>
            <a:spLocks noGrp="1"/>
          </p:cNvSpPr>
          <p:nvPr>
            <p:ph/>
          </p:nvPr>
        </p:nvSpPr>
        <p:spPr>
          <a:xfrm>
            <a:off x="609120" y="2057400"/>
            <a:ext cx="8001000" cy="4525920"/>
          </a:xfrm>
          <a:prstGeom prst="rect">
            <a:avLst/>
          </a:prstGeom>
          <a:noFill/>
          <a:ln w="0">
            <a:noFill/>
          </a:ln>
        </p:spPr>
        <p:txBody>
          <a:bodyPr anchor="t">
            <a:normAutofit/>
          </a:bodyPr>
          <a:p>
            <a:pPr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you look at his striking image by the French primitive painter, Henri Rousseau (1844-1910), what is your first impression about the mood or feeling the painting conveys?</a:t>
            </a:r>
            <a:endParaRPr b="0" lang="en-US" sz="32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 AND SHAPING</a:t>
            </a:r>
            <a:endParaRPr b="1" lang="en-US" sz="2800" spc="-1" strike="noStrike">
              <a:solidFill>
                <a:srgbClr val="ffffff"/>
              </a:solidFill>
              <a:latin typeface="Arial"/>
            </a:endParaRPr>
          </a:p>
        </p:txBody>
      </p:sp>
      <p:sp>
        <p:nvSpPr>
          <p:cNvPr id="85" name="PlaceHolder 2"/>
          <p:cNvSpPr>
            <a:spLocks noGrp="1"/>
          </p:cNvSpPr>
          <p:nvPr>
            <p:ph/>
          </p:nvPr>
        </p:nvSpPr>
        <p:spPr>
          <a:xfrm>
            <a:off x="533520" y="1600200"/>
            <a:ext cx="81532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the painting careful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jot down a list of details from the painting together with ideas about how those details are rela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the lighting, colors, shapes, lines, and textur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read your li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sentence that describes the mood this painting conveys.</a:t>
            </a:r>
            <a:endParaRPr b="0" lang="en-US" sz="28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AFTING</a:t>
            </a:r>
            <a:endParaRPr b="1" lang="en-US" sz="3200" spc="-1" strike="noStrike">
              <a:solidFill>
                <a:srgbClr val="ffffff"/>
              </a:solidFill>
              <a:latin typeface="Arial"/>
            </a:endParaRPr>
          </a:p>
        </p:txBody>
      </p:sp>
      <p:sp>
        <p:nvSpPr>
          <p:cNvPr id="87" name="PlaceHolder 2"/>
          <p:cNvSpPr>
            <a:spLocks noGrp="1"/>
          </p:cNvSpPr>
          <p:nvPr>
            <p:ph/>
          </p:nvPr>
        </p:nvSpPr>
        <p:spPr>
          <a:xfrm>
            <a:off x="685800" y="2057400"/>
            <a:ext cx="78487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 paragraph in response to the question: “What mood does Rousseau’s </a:t>
            </a:r>
            <a:r>
              <a:rPr b="0" lang="en-US" sz="3200" spc="-1" strike="noStrike" u="sng">
                <a:solidFill>
                  <a:srgbClr val="ffffff"/>
                </a:solidFill>
                <a:uFillTx/>
                <a:latin typeface="Arial"/>
              </a:rPr>
              <a:t>Sleeping Gypsy</a:t>
            </a:r>
            <a:r>
              <a:rPr b="0" lang="en-US" sz="3200" spc="-1" strike="noStrike">
                <a:solidFill>
                  <a:srgbClr val="ffffff"/>
                </a:solidFill>
                <a:latin typeface="Arial"/>
              </a:rPr>
              <a:t> conve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sure to include the details of the painting that contributed to your impression.</a:t>
            </a:r>
            <a:endParaRPr b="0" lang="en-US" sz="32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NG</a:t>
            </a:r>
            <a:endParaRPr b="1" lang="en-US" sz="3200" spc="-1" strike="noStrike">
              <a:solidFill>
                <a:srgbClr val="ff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that you want to describe the process by which you arrived at your conclusion.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write your paragraph, organizing it chronologically (e.g. “The first thing that struck me about the painting was X, then I noticed Y…” and so 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e your topic sentence for the end of the paragraph.</a:t>
            </a:r>
            <a:endParaRPr b="0" lang="en-US" sz="32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a:t>
            </a:r>
            <a:endParaRPr b="1" lang="en-US" sz="2800" spc="-1" strike="noStrike">
              <a:solidFill>
                <a:srgbClr val="ff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your paragraph fo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Y: Does every sentence in it relate directly to the topic sent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CE: Do you stick to chronological order?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HERENCE: Do you notice any unconnected leaps of thought? If needed, a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al marker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etition of key words or pronoun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llel grammatical structure</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Do you provide ample detail? Did you use any imprecise/fuzzy words?</a:t>
            </a:r>
            <a:endParaRPr b="0" lang="en-US" sz="24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ING</a:t>
            </a:r>
            <a:endParaRPr b="1" lang="en-US" sz="2800" spc="-1" strike="noStrike">
              <a:solidFill>
                <a:srgbClr val="ffffff"/>
              </a:solidFill>
              <a:latin typeface="Arial"/>
            </a:endParaRPr>
          </a:p>
        </p:txBody>
      </p:sp>
      <p:sp>
        <p:nvSpPr>
          <p:cNvPr id="93" name="PlaceHolder 2"/>
          <p:cNvSpPr>
            <a:spLocks noGrp="1"/>
          </p:cNvSpPr>
          <p:nvPr>
            <p:ph type="subTitle"/>
          </p:nvPr>
        </p:nvSpPr>
        <p:spPr>
          <a:xfrm>
            <a:off x="609120" y="2285640"/>
            <a:ext cx="8077320" cy="3352680"/>
          </a:xfrm>
          <a:prstGeom prst="rect">
            <a:avLst/>
          </a:prstGeom>
          <a:noFill/>
          <a:ln w="0">
            <a:noFill/>
          </a:ln>
        </p:spPr>
        <p:txBody>
          <a:bodyPr anchor="t">
            <a:noAutofit/>
          </a:bodyPr>
          <a:p>
            <a:pPr marL="343080" indent="-343080">
              <a:lnSpc>
                <a:spcPct val="12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your paragraph for correctness of sentence structure, grammar, spelling and punctuation.</a:t>
            </a:r>
            <a:endParaRPr b="0" lang="en-US" sz="3200" spc="-1" strike="noStrike">
              <a:solidFill>
                <a:srgbClr val="ffffff"/>
              </a:solidFill>
              <a:latin typeface="Arial"/>
            </a:endParaRPr>
          </a:p>
          <a:p>
            <a:pPr marL="343080" indent="-343080">
              <a:lnSpc>
                <a:spcPct val="12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any necessary changes.</a:t>
            </a:r>
            <a:endParaRPr b="0" lang="en-US" sz="3200" spc="-1" strike="noStrike">
              <a:solidFill>
                <a:srgbClr val="ffffff"/>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ION</a:t>
            </a:r>
            <a:endParaRPr b="1" lang="en-US" sz="2800" spc="-1" strike="noStrike">
              <a:solidFill>
                <a:srgbClr val="ffffff"/>
              </a:solidFill>
              <a:latin typeface="Arial"/>
            </a:endParaRPr>
          </a:p>
        </p:txBody>
      </p:sp>
      <p:sp>
        <p:nvSpPr>
          <p:cNvPr id="95" name="PlaceHolder 2"/>
          <p:cNvSpPr>
            <a:spLocks noGrp="1"/>
          </p:cNvSpPr>
          <p:nvPr>
            <p:ph/>
          </p:nvPr>
        </p:nvSpPr>
        <p:spPr>
          <a:xfrm>
            <a:off x="609480" y="2133720"/>
            <a:ext cx="792504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 the two paragraphs you have writt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the differences with your classmates.</a:t>
            </a:r>
            <a:endParaRPr b="0" lang="en-US" sz="32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1</a:t>
            </a:r>
            <a:endParaRPr b="1" lang="en-US" sz="28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97, Margaret Prescott remembers that the friends she made in her childhood were people who lived within two or three blocks of her house, and that was it. Today, we visit people who live 10-100 miles from where we are located on a daily basis with no problem. She remembers when McKinley was shot in the third grade; the newsboys who ran through the streets shouting “Extra! Extra! Extra!” she went to Mt Holyoke College in south Hadley, Massachusetts. Getting to the college was a chore: “To get to South Hadley you had to get yourself to Boston by train, transfer stations, catch the train for Springfield, take a trolley car to the nearest town, which was Holyoke, and then get from there to South Hadley by horse and wagon and unload your bags. Once you were there you were lucky if you got to go home for Thanksgiving.” Her husband worked for a family-owned firm which was a blacksmith shop. They made steel rims which would go around wooden spoked wheels on horse-drawn carriages and some other various parts. Then, as cars came with time, they made custom parts and did interior work. The first car they ever had was made by Ford and was called a “Falcon Night”; it was made in 1919 and had fold-out rumble seats in the back.</a:t>
            </a:r>
            <a:endParaRPr b="0" lang="en-US" sz="20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ED FOR UNITY</a:t>
            </a:r>
            <a:endParaRPr b="1" lang="en-US" sz="3200" spc="-1" strike="noStrike">
              <a:solidFill>
                <a:srgbClr val="ffffff"/>
              </a:solidFill>
              <a:latin typeface="Arial"/>
            </a:endParaRPr>
          </a:p>
        </p:txBody>
      </p:sp>
      <p:sp>
        <p:nvSpPr>
          <p:cNvPr id="47" name="PlaceHolder 2"/>
          <p:cNvSpPr>
            <a:spLocks noGrp="1"/>
          </p:cNvSpPr>
          <p:nvPr>
            <p:ph/>
          </p:nvPr>
        </p:nvSpPr>
        <p:spPr>
          <a:xfrm>
            <a:off x="533520" y="1600200"/>
            <a:ext cx="8229600" cy="4525920"/>
          </a:xfrm>
          <a:prstGeom prst="rect">
            <a:avLst/>
          </a:prstGeom>
          <a:noFill/>
          <a:ln w="0">
            <a:noFill/>
          </a:ln>
        </p:spPr>
        <p:txBody>
          <a:bodyPr anchor="t">
            <a:normAutofit fontScale="96000"/>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ening to Margaret Prescott, 97, it becomes apparent that she lived through the evolution of transportation in America. Although we think nothing of visiting people who live 100 miles away, she remembers that in her childhood, the only friends her family made lived within two or three blocks of her house, and that was it. Later, when she went to college (Mt. Holyoke, South Hadley, Massachusetts) she found getting there a chore: “To get to South Hadley you had to get yourself to Boston by train, transfer stations, catch the train for Springfield, take a trolley car to the nearest town, which was Holyoke, and then get from there to South Hadley by horse and wagon and unload your bags. Once you were there you were lucky if you got to go home for Thanksgiving.”  When she married, her husband worked for a family-owned blacksmith shop which made steel rims for the wooden-spoked wheels on horse-drawn carriages. When cars came, the shop switched to custom parts and interior work. The first car she and her husband ever had was a “Falcon Night,” made by Ford in 1919; it came complete with fold-out rumble seats in back.</a:t>
            </a:r>
            <a:endParaRPr b="0" lang="en-US" sz="20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COHERENT SPATIAL ARRANGEMENT</a:t>
            </a:r>
            <a:endParaRPr b="1" lang="en-US" sz="2800" spc="-1" strike="noStrike">
              <a:solidFill>
                <a:srgbClr val="ffffff"/>
              </a:solidFill>
              <a:latin typeface="Arial"/>
            </a:endParaRPr>
          </a:p>
        </p:txBody>
      </p:sp>
      <p:sp>
        <p:nvSpPr>
          <p:cNvPr id="49" name="PlaceHolder 2"/>
          <p:cNvSpPr>
            <a:spLocks noGrp="1"/>
          </p:cNvSpPr>
          <p:nvPr>
            <p:ph/>
          </p:nvPr>
        </p:nvSpPr>
        <p:spPr>
          <a:xfrm>
            <a:off x="533520" y="1905120"/>
            <a:ext cx="8153280" cy="452592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ions are easier to follow when organized according to a coherent spatial order: top to bottom, left to right, inside to outside, and so on.</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the following paragraph.</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sentences in a coherent spatial arrangement so your reader can stay locate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2</a:t>
            </a:r>
            <a:endParaRPr b="1" lang="en-US" sz="28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thing about the family home in Fairfield, Connecticut, reminds me of my heritage. Its attributes include various steep swirling staircases, a trap door, and several small compartments. The great stone wall surrounding the house, with no mortar to hold the stones together, was placed there by my ancestors. The cast-iron fireplaces have special areas for baking bread. The massive front door has a character of its own and breaks up the monotony of the thick windows. The uneven floor consists of long wooden planks, sagging because the foundation (the original) has settled unevenly. As a child, I loved to hide in the secret compartments just as my grandmother must have. The high, decorative ceiling creates a feeling of airiness. Above the door is an elaborate stained-glass window shaped in a half-circle. The door’s two sections open separately; the upper section sports an antique brass eagle knocker. The stone wall, though authentic, also had a practical purpose: the rocks were left behind by glaciers and the wall was a convenient way to get rid of them.</a:t>
            </a:r>
            <a:endParaRPr b="0" lang="en-US" sz="2000" spc="-1" strike="noStrike">
              <a:solidFill>
                <a:srgbClr val="ffffff"/>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ED FOR SPATIAL ARRANGEMENT</a:t>
            </a:r>
            <a:endParaRPr b="1" lang="en-US" sz="28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thing about the family home in Fairfield, Connecticut, reminds me of my heritage. The great stone wall surrounding the house, with no mortar to hold the stones together, was placed there by my ancestors. The wall, however picturesque, also served a practical purpose: it made a convenient way to get rid of the rocks left behind by glaciers. Looking beyond the wall to the house itself, one sees the monotony of the thick windows broken up by an immense door with a character of its own. Its two sections open separately; the upper section sports an antique brass eagle knocker. Above the door is an elaborate stained-glass window shaped in a half-circle. Stepping inside the house one immediately notices the floor of long, wooden planks whose unevenness makes the house seem unbalanced. The foundation - the original foundation - has settled unevenly. The cast-iron fireplaces have special areas for baking bread. The high, decorative ceiling creates a feeling of airiness.  Other attributes include various steep swirling staircases, a trap door, and several small compartments. As a child I found these compartments a place of refuge - just as my grandmother probably had.</a:t>
            </a:r>
            <a:endParaRPr b="0" lang="en-US" sz="20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COHERENCE: CLIMACTIC ARRANGEMENT</a:t>
            </a:r>
            <a:endParaRPr b="1" lang="en-US" sz="2800" spc="-1" strike="noStrike">
              <a:solidFill>
                <a:srgbClr val="ffffff"/>
              </a:solidFill>
              <a:latin typeface="Arial"/>
            </a:endParaRPr>
          </a:p>
        </p:txBody>
      </p:sp>
      <p:sp>
        <p:nvSpPr>
          <p:cNvPr id="55" name="PlaceHolder 2"/>
          <p:cNvSpPr>
            <a:spLocks noGrp="1"/>
          </p:cNvSpPr>
          <p:nvPr>
            <p:ph/>
          </p:nvPr>
        </p:nvSpPr>
        <p:spPr>
          <a:xfrm>
            <a:off x="457200" y="1980720"/>
            <a:ext cx="8229600" cy="396252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graphs can often be made more coherent and more emphatic by arranging details or examples in order of increasing importance - saving the best for last.</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the following paragraph.</a:t>
            </a: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on the sentences and parts of sentences in climactic order.</a:t>
            </a:r>
            <a:endParaRPr b="0" lang="en-US" sz="2800" spc="-1" strike="noStrike">
              <a:solidFill>
                <a:srgbClr val="ffffff"/>
              </a:solidFill>
              <a:latin typeface="Arial"/>
            </a:endParaRPr>
          </a:p>
        </p:txBody>
      </p:sp>
    </p:spTree>
  </p:cSld>
  <p:transition>
    <p:random/>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3</a:t>
            </a:r>
            <a:endParaRPr b="1" lang="en-US" sz="28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s should spend more time providing their children with guidance and assistance, as opposed to punishment and criticism. Part of ensuring a child’s mental and physical well-being is letting her know she is loved for what she is. But parents all too often place conditions on their love. Children learn to understand that they will be loved only if they get good grades. A “B” grade may be all right, but we’ll love you more if you get an “A.” As Kathie Durbin points out in her article “Grappling with Grades,” children are an investment in time. Knowing the child and her abilities and limitations takes time and care. That means time spent just talking about anything that’s important in the child’s eyes. It means time spent together learning “for fun.” And it means time at the library and at home reading together. These are the things that can motivate a child, i.e., mold a child’s positive attitude toward learning at an early age.</a:t>
            </a:r>
            <a:endParaRPr b="0" lang="en-US" sz="24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8T05:42:08Z</dcterms:created>
  <dc:creator>cmosley</dc:creator>
  <dc:description/>
  <dc:language>en-US</dc:language>
  <cp:lastModifiedBy>KISD</cp:lastModifiedBy>
  <dcterms:modified xsi:type="dcterms:W3CDTF">2010-04-07T19:29:01Z</dcterms:modified>
  <cp:revision>148</cp:revision>
  <dc:subject/>
  <dc:title>CM</dc:title>
</cp:coreProperties>
</file>